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7D45-C075-4085-9256-766A416E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2819520"/>
            <a:ext cx="70866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4451400"/>
            <a:ext cx="70866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FC14-87A6-4122-83BF-6CBEB772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2819520"/>
            <a:ext cx="3458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3440" y="2819520"/>
            <a:ext cx="3458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4451400"/>
            <a:ext cx="3458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3440" y="4451400"/>
            <a:ext cx="3458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E191-E27E-4297-9A55-8486091B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2819520"/>
            <a:ext cx="2281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48280" y="2819520"/>
            <a:ext cx="2281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4440" y="2819520"/>
            <a:ext cx="2281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4451400"/>
            <a:ext cx="2281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48280" y="4451400"/>
            <a:ext cx="2281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4440" y="4451400"/>
            <a:ext cx="2281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A3F5-FB94-44E0-8250-1953EE0F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45D-E8A4-417D-B16B-C67EE750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C3D6-F3DF-4A92-8E00-E30853CF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2819520"/>
            <a:ext cx="3458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3440" y="2819520"/>
            <a:ext cx="3458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387-7384-4922-BCB0-2C0E0531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AC1F-F533-4D98-BC24-36EAA522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676520"/>
            <a:ext cx="7086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47C-90B3-42F0-89E9-5F2BC210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2819520"/>
            <a:ext cx="3458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3440" y="2819520"/>
            <a:ext cx="3458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4451400"/>
            <a:ext cx="3458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A58-E37A-4F95-A368-7A5D7C2F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2819520"/>
            <a:ext cx="3458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3440" y="2819520"/>
            <a:ext cx="3458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3440" y="4451400"/>
            <a:ext cx="3458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524-B8DE-4155-BEB4-63B4450F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2819520"/>
            <a:ext cx="3458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3440" y="2819520"/>
            <a:ext cx="3458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4451400"/>
            <a:ext cx="70866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96B-F08E-46C1-844A-DAAA80F2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ＭＳ Ｐゴシック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28F7-DD7B-4F69-B405-0A1619EFBA98}" type="slidenum"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8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9640" y="380880"/>
            <a:ext cx="6651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ef4ac"/>
                </a:solidFill>
                <a:latin typeface="ＭＳ Ｐゴシック"/>
              </a:rPr>
              <a:t>立体的にイメージする</a:t>
            </a:r>
            <a:endParaRPr b="0" lang="en-US" sz="48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66520" y="1773360"/>
            <a:ext cx="632484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99"/>
                </a:solidFill>
                <a:latin typeface="ＭＳ Ｐゴシック"/>
              </a:rPr>
              <a:t>３つの情報を１つにする</a:t>
            </a:r>
            <a:endParaRPr b="0" lang="en-US" sz="4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ＭＳ Ｐゴシック"/>
              </a:rPr>
              <a:t>「平面」→「立体」</a:t>
            </a: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ＭＳ Ｐゴシック"/>
              </a:rPr>
              <a:t>頭の中でイメージすることが大切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98100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ef4ac"/>
                </a:solidFill>
                <a:latin typeface="ＭＳ Ｐゴシック"/>
              </a:rPr>
              <a:t>平面から立体を表す方法</a:t>
            </a: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724360" y="2587680"/>
            <a:ext cx="3313440" cy="2570040"/>
            <a:chOff x="5724360" y="2587680"/>
            <a:chExt cx="3313440" cy="257004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5724360" y="2587680"/>
              <a:ext cx="3313440" cy="25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6805440" y="263700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HGP創英角ｺﾞｼｯｸUB"/>
                </a:rPr>
                <a:t>正面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996840" y="2421000"/>
            <a:ext cx="1774800" cy="2630520"/>
            <a:chOff x="996840" y="2421000"/>
            <a:chExt cx="1774800" cy="263052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96840" y="2421000"/>
              <a:ext cx="1774800" cy="26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403280" y="256536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HGP創英角ｺﾞｼｯｸUB"/>
                </a:rPr>
                <a:t>側面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132000" y="5156280"/>
            <a:ext cx="2880000" cy="1728720"/>
            <a:chOff x="3132000" y="5156280"/>
            <a:chExt cx="2880000" cy="1728720"/>
          </a:xfrm>
        </p:grpSpPr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3132000" y="5156280"/>
              <a:ext cx="288000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788000" y="608976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66cc"/>
                  </a:solidFill>
                  <a:latin typeface="Arial"/>
                  <a:ea typeface="HGP創英角ｺﾞｼｯｸUB"/>
                </a:rPr>
                <a:t>上面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011240" y="1716120"/>
            <a:ext cx="1757520" cy="331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5746680" y="1716120"/>
            <a:ext cx="3362400" cy="354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050920" y="5126040"/>
            <a:ext cx="5113440" cy="175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33333E-006 L 0.11232 3.33333E-006 E">
                                      <p:cBhvr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81481E-006 L -0.21789 -4.81481E-006 E">
                                      <p:cBhvr>
                                        <p:cTn id="28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4.44444E-006 L -0.00208 -0.13425 E">
                                      <p:cBhvr>
                                        <p:cTn id="3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98100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ef4ac"/>
                </a:solidFill>
                <a:latin typeface="ＭＳ Ｐゴシック"/>
              </a:rPr>
              <a:t>立体を平面で表す方法</a:t>
            </a: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022480" y="1716120"/>
            <a:ext cx="1757520" cy="3313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740040" y="1716120"/>
            <a:ext cx="3362400" cy="354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035080" y="4159080"/>
            <a:ext cx="5113440" cy="1758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3564000" y="2060280"/>
            <a:ext cx="0" cy="2950920"/>
          </a:xfrm>
          <a:prstGeom prst="line">
            <a:avLst/>
          </a:prstGeom>
          <a:ln w="57240">
            <a:solidFill>
              <a:srgbClr val="ffcc00"/>
            </a:solidFill>
            <a:miter/>
            <a:headEnd len="sm" type="oval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2997360"/>
            <a:ext cx="3240000" cy="936360"/>
          </a:xfrm>
          <a:prstGeom prst="line">
            <a:avLst/>
          </a:prstGeom>
          <a:ln w="57240">
            <a:solidFill>
              <a:srgbClr val="ff0000"/>
            </a:solidFill>
            <a:miter/>
            <a:headEnd len="sm" type="oval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27320" y="2244600"/>
            <a:ext cx="0" cy="2951280"/>
          </a:xfrm>
          <a:prstGeom prst="line">
            <a:avLst/>
          </a:prstGeom>
          <a:ln w="57240">
            <a:solidFill>
              <a:srgbClr val="ffcc00"/>
            </a:solidFill>
            <a:miter/>
            <a:headEnd len="sm" type="oval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71840" y="4044960"/>
            <a:ext cx="3240000" cy="936720"/>
          </a:xfrm>
          <a:prstGeom prst="line">
            <a:avLst/>
          </a:prstGeom>
          <a:ln w="57240">
            <a:solidFill>
              <a:srgbClr val="ff0000"/>
            </a:solidFill>
            <a:miter/>
            <a:headEnd len="sm" type="oval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50920" y="2778120"/>
            <a:ext cx="2743200" cy="1162080"/>
          </a:xfrm>
          <a:prstGeom prst="line">
            <a:avLst/>
          </a:prstGeom>
          <a:ln w="57240">
            <a:solidFill>
              <a:srgbClr val="3366ff"/>
            </a:solidFill>
            <a:miter/>
            <a:headEnd len="sm" type="oval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84400" y="3803760"/>
            <a:ext cx="2743200" cy="1162080"/>
          </a:xfrm>
          <a:prstGeom prst="line">
            <a:avLst/>
          </a:prstGeom>
          <a:ln w="57240">
            <a:solidFill>
              <a:srgbClr val="3366ff"/>
            </a:solidFill>
            <a:miter/>
            <a:headEnd len="sm" type="oval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484360" y="2924280"/>
            <a:ext cx="2743200" cy="1162080"/>
          </a:xfrm>
          <a:prstGeom prst="line">
            <a:avLst/>
          </a:prstGeom>
          <a:ln w="57240">
            <a:solidFill>
              <a:srgbClr val="3366ff"/>
            </a:solidFill>
            <a:miter/>
            <a:headEnd len="sm" type="oval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484360" y="3922560"/>
            <a:ext cx="2743200" cy="1162080"/>
          </a:xfrm>
          <a:prstGeom prst="line">
            <a:avLst/>
          </a:prstGeom>
          <a:ln w="57240">
            <a:solidFill>
              <a:srgbClr val="3366ff"/>
            </a:solidFill>
            <a:miter/>
            <a:headEnd len="sm" type="oval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0920" y="3213000"/>
            <a:ext cx="144360" cy="142920"/>
          </a:xfrm>
          <a:prstGeom prst="ellipse">
            <a:avLst/>
          </a:prstGeom>
          <a:solidFill>
            <a:srgbClr val="ff99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38760" y="3365640"/>
            <a:ext cx="144360" cy="142560"/>
          </a:xfrm>
          <a:prstGeom prst="ellipse">
            <a:avLst/>
          </a:prstGeom>
          <a:solidFill>
            <a:srgbClr val="ff99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0920" y="4254480"/>
            <a:ext cx="144360" cy="142920"/>
          </a:xfrm>
          <a:prstGeom prst="ellipse">
            <a:avLst/>
          </a:prstGeom>
          <a:solidFill>
            <a:srgbClr val="ff99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48120" y="4397400"/>
            <a:ext cx="144360" cy="142920"/>
          </a:xfrm>
          <a:prstGeom prst="ellipse">
            <a:avLst/>
          </a:prstGeom>
          <a:solidFill>
            <a:srgbClr val="ff99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3204000" y="3660120"/>
            <a:ext cx="1150920" cy="431640"/>
          </a:xfrm>
          <a:prstGeom prst="parallelogram">
            <a:avLst>
              <a:gd name="adj" fmla="val 27207"/>
            </a:avLst>
          </a:prstGeom>
          <a:solidFill>
            <a:srgbClr val="c0c0c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8720" y="2876400"/>
            <a:ext cx="3240000" cy="93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32200" y="3916440"/>
            <a:ext cx="3240000" cy="93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57640" y="2727360"/>
            <a:ext cx="3240000" cy="93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3755880"/>
            <a:ext cx="3240000" cy="93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395960" y="2101680"/>
            <a:ext cx="0" cy="295128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43440" y="2236680"/>
            <a:ext cx="0" cy="295128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35480" y="2333520"/>
            <a:ext cx="0" cy="295128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340160" y="1757160"/>
            <a:ext cx="0" cy="295092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235480" y="2020680"/>
            <a:ext cx="0" cy="295092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667480" y="2174760"/>
            <a:ext cx="0" cy="295128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908440" y="3044880"/>
            <a:ext cx="2743200" cy="1162080"/>
          </a:xfrm>
          <a:prstGeom prst="line">
            <a:avLst/>
          </a:prstGeom>
          <a:ln w="38160">
            <a:solidFill>
              <a:srgbClr val="3366ff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300480" y="3619440"/>
            <a:ext cx="2743200" cy="1162080"/>
          </a:xfrm>
          <a:prstGeom prst="line">
            <a:avLst/>
          </a:prstGeom>
          <a:ln w="38160">
            <a:solidFill>
              <a:srgbClr val="3366ff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76720" y="4129200"/>
            <a:ext cx="2743200" cy="1162080"/>
          </a:xfrm>
          <a:prstGeom prst="line">
            <a:avLst/>
          </a:prstGeom>
          <a:ln w="38160">
            <a:solidFill>
              <a:srgbClr val="3366ff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8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385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38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38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8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38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8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38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38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38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85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385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38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38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5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98100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ef4ac"/>
                </a:solidFill>
                <a:latin typeface="ＭＳ Ｐゴシック"/>
              </a:rPr>
              <a:t>立体を平面で表す方法</a:t>
            </a: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022480" y="1716120"/>
            <a:ext cx="1757520" cy="3313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740040" y="1716120"/>
            <a:ext cx="3362400" cy="354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035080" y="4159080"/>
            <a:ext cx="5113440" cy="1758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635280" y="3052800"/>
            <a:ext cx="1835280" cy="147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98100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ef4ac"/>
                </a:solidFill>
                <a:latin typeface="ＭＳ Ｐゴシック"/>
              </a:rPr>
              <a:t>立体を平面で表す方法</a:t>
            </a: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303640" y="2332080"/>
            <a:ext cx="4500360" cy="3760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284560" y="2333520"/>
            <a:ext cx="4497120" cy="3738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252520" y="2286000"/>
            <a:ext cx="1598760" cy="3014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3819600" y="2349360"/>
            <a:ext cx="2935080" cy="3095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2340000" y="4599000"/>
            <a:ext cx="4464000" cy="1487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3720960" y="3505320"/>
            <a:ext cx="1690920" cy="1363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996840" y="2421000"/>
            <a:ext cx="1774800" cy="2630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5724360" y="2587680"/>
            <a:ext cx="3313440" cy="2570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3132000" y="5156280"/>
            <a:ext cx="2880000" cy="1728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05440" y="2637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正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256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側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60897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cc"/>
                </a:solidFill>
                <a:latin typeface="Arial"/>
                <a:ea typeface="HGP創英角ｺﾞｼｯｸUB"/>
              </a:rPr>
              <a:t>上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0046 L -0.13299 -0.00046 E">
                                      <p:cBhvr>
                                        <p:cTn id="239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L 0.229 2.96296E-006 E">
                                      <p:cBhvr>
                                        <p:cTn id="24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0 0.09907 E">
                                      <p:cBhvr>
                                        <p:cTn id="24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0:18:45Z</dcterms:created>
  <dc:creator>江島　裕章</dc:creator>
  <dc:description/>
  <cp:keywords/>
  <dc:language>en-US</dc:language>
  <cp:lastModifiedBy>江島　裕章</cp:lastModifiedBy>
  <dcterms:modified xsi:type="dcterms:W3CDTF">2009-01-16T02:22:51Z</dcterms:modified>
  <cp:revision>21</cp:revision>
  <dc:subject/>
  <dc:title>立体的にイメージす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41041</vt:lpwstr>
  </property>
</Properties>
</file>